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AC3F1-DAC0-461A-8F2E-B1C0F75FF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64916-1810-4279-B99A-05A365548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DC280-331D-4BA8-ABA0-61ED7BAD7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99ECB-395D-413B-8A86-60A8417FB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F160A-C010-4E18-8AFB-D438885DA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BCA9D-2AA8-49AE-BE26-15ECD309F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DCEF2-F7F9-4626-BBD1-55F2B167A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C86B3-DADB-454D-8C43-D349CEE1A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FC1B3-1811-40D6-AFD1-15A0874C1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F18E0-AD94-4C98-B3D7-E66444B11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2311D-93F4-471D-9709-2DA1636A1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ECCFD-23F6-4EB7-9262-7E98C6595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6AF0A-EE4C-4A62-8A86-233E33632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8D036-DC33-4CF8-A372-2CBAB6B18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4E240-7C77-45F5-8294-567B308CB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E2EBA-F2A6-4B21-941C-39C50F225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0CCEB-35DA-4A47-A302-8C41B48B5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03879-6D5D-45DF-AB63-016AD0675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79F2D-621C-4793-B123-ABE506D7D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06B98-2793-4080-BD75-A346012DF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306E3-E5A3-41FD-BFB6-ED49CDF2C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3BE37-AD77-4BF9-97C8-590463274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B0D3C-161A-4ACF-8020-E2D8B734A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83DE9-F630-400C-9076-B0F798F8E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2484C-82AC-422A-A530-66CDA2C04703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0413A-5B6A-4854-A47A-93140212E753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Sources of Instructional Goals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066320" y="17524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hild – What does the child need to know developmentally?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ociety – What does the child need to know in order to be able to function well in our society?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cademic Disciplines – What content within a discipline is important to teach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unshine State Standar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32" name="Content Placeholder 3" descr=""/>
          <p:cNvPicPr/>
          <p:nvPr/>
        </p:nvPicPr>
        <p:blipFill>
          <a:blip r:embed="rId1"/>
          <a:srcRect l="-18748" t="0" r="-18748" b="0"/>
          <a:stretch/>
        </p:blipFill>
        <p:spPr>
          <a:xfrm>
            <a:off x="-1295280" y="152280"/>
            <a:ext cx="11734560" cy="640080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5" name="Content Placeholder 3" descr=""/>
          <p:cNvPicPr/>
          <p:nvPr/>
        </p:nvPicPr>
        <p:blipFill>
          <a:blip r:embed="rId1"/>
          <a:srcRect l="-6381" t="0" r="-6381" b="0"/>
          <a:stretch/>
        </p:blipFill>
        <p:spPr>
          <a:xfrm>
            <a:off x="-457200" y="762120"/>
            <a:ext cx="10058400" cy="548640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Domains of Learning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ach lesson plan must include objectives, or statements indicating what students should be able to do at the end of a period of instruction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ach objective falls within at least one of three domains (or categories) of learning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ipe dir="l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Affective Domain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bjectives reflecting underlying emotions, feelings, or values rather than level of thinking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ample: 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The music student will appreciate music from the Baroque period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0" name="Picture 3" descr=""/>
          <p:cNvPicPr/>
          <p:nvPr/>
        </p:nvPicPr>
        <p:blipFill>
          <a:blip r:embed="rId1"/>
          <a:stretch/>
        </p:blipFill>
        <p:spPr>
          <a:xfrm>
            <a:off x="3505320" y="4876920"/>
            <a:ext cx="2361960" cy="157464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Hierarchical Levels of the Affective Domain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ceiving (Attending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spond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alu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rgan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haracterization by a value or value complex:  One behaves in a manner consistent with one’s value system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ipe dir="l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Psychomotor Domain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bjectives in this domain deal with movement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ample: 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The dance student will perform all 5 basic positions of ballet with 100% accuracy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5" name="Picture 3" descr=""/>
          <p:cNvPicPr/>
          <p:nvPr/>
        </p:nvPicPr>
        <p:blipFill>
          <a:blip r:embed="rId1"/>
          <a:stretch/>
        </p:blipFill>
        <p:spPr>
          <a:xfrm>
            <a:off x="5715000" y="4419720"/>
            <a:ext cx="1920960" cy="137160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Psychomotor Domain Hierarchy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oving – gross motor control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nipulating – fine motor coordin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mmunicating – communication of ideas and feeling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reating – represents the student’s coordination of thinking, learning, and behaving in all three domai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ipe dir="l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Cognitive Domain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bjectives that deals with level of thinking required of the stud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st objectives in the                        schools tend to come                             from the cognitive                             domain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gnitive domain most referred to: Bloom’s Taxonomy of Educational Objectives; six hierarchical level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0" name="Picture 3" descr=""/>
          <p:cNvPicPr/>
          <p:nvPr/>
        </p:nvPicPr>
        <p:blipFill>
          <a:blip r:embed="rId1"/>
          <a:stretch/>
        </p:blipFill>
        <p:spPr>
          <a:xfrm>
            <a:off x="5334120" y="2971800"/>
            <a:ext cx="2349360" cy="15238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66320" y="-15264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Cognitive Domain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066320" y="137160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ew Model:  Anderson and Krathwohl’s Taxonomy (2000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Very similar to Bloom’s Taxonomy, except for switching of the two highest levels.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3" name="Picture 3" descr="Two cognitive domains.png"/>
          <p:cNvPicPr/>
          <p:nvPr/>
        </p:nvPicPr>
        <p:blipFill>
          <a:blip r:embed="rId1"/>
          <a:stretch/>
        </p:blipFill>
        <p:spPr>
          <a:xfrm>
            <a:off x="914400" y="3276720"/>
            <a:ext cx="7543800" cy="320976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Levels of Bloom’s Taxonomy of Educational Objectives 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nowledge:  requires students to memorize and recall inform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mprehension:  requires students to demonstrate some level of understand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pplication:  requires students to use previously acquired information in a setting other than that in which it was learned.  Students are required to transfer their skills to another setting/situation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ipe dir="l"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Three-Phase Approach </a:t>
            </a:r>
            <a:br>
              <a:rPr sz="4000"/>
            </a:b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for Teaching 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lanning – select goal and approach means by which to achieve i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mplementing – actual performance of a strateg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valuating –                         determining if                        instruction has                              been successfu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3" name="Picture 3" descr=""/>
          <p:cNvPicPr/>
          <p:nvPr/>
        </p:nvPicPr>
        <p:blipFill>
          <a:blip r:embed="rId1"/>
          <a:stretch/>
        </p:blipFill>
        <p:spPr>
          <a:xfrm>
            <a:off x="4800600" y="3971880"/>
            <a:ext cx="3076560" cy="204804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Levels of Bloom’s Taxonomy of Educational Objectives 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nalysis:  requires students to draw relationships among ideas or to compare/contrast; break down informatio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ynthesis:  requires students to draw from what he/she has learned and produce something unique.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Highest level in Anderson and Krathwohl’s model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valuation:  requires students to form judgments about the value or worth of something and to substantiate his/her judgment.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Next to the highest level in Anderson and Krathwohl’s model.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ipe dir="l"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59" name="Content Placeholder 3" descr=""/>
          <p:cNvPicPr/>
          <p:nvPr/>
        </p:nvPicPr>
        <p:blipFill>
          <a:blip r:embed="rId1"/>
          <a:srcRect l="-6363" t="0" r="-6363" b="0"/>
          <a:stretch/>
        </p:blipFill>
        <p:spPr>
          <a:xfrm>
            <a:off x="-520560" y="609480"/>
            <a:ext cx="10198080" cy="556272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Student-Friendly Academic Scale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61" name="Content Placeholder 5" descr=""/>
          <p:cNvPicPr/>
          <p:nvPr/>
        </p:nvPicPr>
        <p:blipFill>
          <a:blip r:embed="rId1"/>
          <a:srcRect l="0" t="-487" r="0" b="-487"/>
          <a:stretch/>
        </p:blipFill>
        <p:spPr>
          <a:xfrm>
            <a:off x="76320" y="1600200"/>
            <a:ext cx="8940600" cy="487692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Professional Learning Communities (PLCs)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urposefully-organized groups that work together on projects and other such tasks over a period of time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eachers in PLCs tend to plan together, brainstorm ideas and activities, etc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f you organize students into groups to work together, the groups can be called home-base groups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ipe dir="l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Home Base Group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tremely appropriate at the upper elementary, middle school, and lower high schools level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urposefully-arranged groups to work together on projects and other such assignments over a period of time.  May or may not meet outside of class time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ipe dir="l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Group Guidelines/Rule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fter the groups are formed, as a group you are to come up with a team name and motto or sloga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n come up with                      guidelines/rules by                              which your group will                       operat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ll group members should contribute to the list and all members should agree on the guidelines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" name="Picture 3" descr=""/>
          <p:cNvPicPr/>
          <p:nvPr/>
        </p:nvPicPr>
        <p:blipFill>
          <a:blip r:embed="rId1"/>
          <a:stretch/>
        </p:blipFill>
        <p:spPr>
          <a:xfrm>
            <a:off x="5181480" y="3149640"/>
            <a:ext cx="2819520" cy="187956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Learning Continuum Scale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99036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 scale is an attempt to create a continuum that delineates distinct levels of knowledge and skill relative to a specific topic.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t can be thought of as an applied version of a learning progression.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 well-written scale should make it easy for teachers to design and score assessment tasks that can be used to generate both formative and summative scores.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3020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lvl="3" marL="13302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r. Robert Marzan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-212760"/>
            <a:ext cx="82296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ahoma"/>
              </a:rPr>
              <a:t>For Teacher Use:  An Academic Scale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24" name="Content Placeholder 3" descr=""/>
          <p:cNvPicPr/>
          <p:nvPr/>
        </p:nvPicPr>
        <p:blipFill>
          <a:blip r:embed="rId1"/>
          <a:srcRect l="-6381" t="0" r="-6381" b="0"/>
          <a:stretch/>
        </p:blipFill>
        <p:spPr>
          <a:xfrm>
            <a:off x="-457200" y="990720"/>
            <a:ext cx="10058400" cy="548640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1904760"/>
            <a:ext cx="2819520" cy="33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For Teacher </a:t>
            </a:r>
            <a:br>
              <a:rPr sz="2800"/>
            </a:b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and Student                                                          Use:  </a:t>
            </a:r>
            <a:br>
              <a:rPr sz="2800"/>
            </a:b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A Checking for </a:t>
            </a:r>
            <a:br>
              <a:rPr sz="2800"/>
            </a:b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Understanding Scale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7" name="Picture 6" descr="20120405_102637 (1).jpg"/>
          <p:cNvPicPr/>
          <p:nvPr/>
        </p:nvPicPr>
        <p:blipFill>
          <a:blip r:embed="rId1"/>
          <a:stretch/>
        </p:blipFill>
        <p:spPr>
          <a:xfrm>
            <a:off x="3940200" y="28440"/>
            <a:ext cx="5203800" cy="6829560"/>
          </a:xfrm>
          <a:prstGeom prst="rect">
            <a:avLst/>
          </a:prstGeom>
          <a:ln w="0">
            <a:noFill/>
          </a:ln>
        </p:spPr>
      </p:pic>
      <p:sp>
        <p:nvSpPr>
          <p:cNvPr id="128" name="TextBox 5"/>
          <p:cNvSpPr/>
          <p:nvPr/>
        </p:nvSpPr>
        <p:spPr>
          <a:xfrm>
            <a:off x="1219320" y="5857920"/>
            <a:ext cx="3200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Franklin Gothic Book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Franklin Gothic Book"/>
              </a:rPr>
              <a:t>Courtesy: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Franklin Gothic Book"/>
              </a:rPr>
              <a:t>Hamilton Elementary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Franklin Gothic Book"/>
              </a:rPr>
              <a:t>1</a:t>
            </a:r>
            <a:r>
              <a:rPr b="1" lang="en-US" sz="1800" spc="-1" strike="noStrike" baseline="30000">
                <a:solidFill>
                  <a:srgbClr val="ffffff"/>
                </a:solidFill>
                <a:latin typeface="Franklin Gothic Book"/>
              </a:rPr>
              <a:t>st</a:t>
            </a:r>
            <a:r>
              <a:rPr b="1" lang="en-US" sz="1800" spc="-1" strike="noStrike">
                <a:solidFill>
                  <a:srgbClr val="ffffff"/>
                </a:solidFill>
                <a:latin typeface="Franklin Gothic Book"/>
              </a:rPr>
              <a:t> Grade Team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10" descr="photo"/>
          <p:cNvPicPr/>
          <p:nvPr/>
        </p:nvPicPr>
        <p:blipFill>
          <a:blip r:embed="rId1"/>
          <a:srcRect l="0" t="10523" r="0" b="10523"/>
          <a:stretch/>
        </p:blipFill>
        <p:spPr>
          <a:xfrm>
            <a:off x="2743200" y="123840"/>
            <a:ext cx="6324480" cy="665784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1920" y="1905120"/>
            <a:ext cx="2667240" cy="396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Tahoma"/>
              </a:rPr>
              <a:t>For Teacher </a:t>
            </a:r>
            <a:br>
              <a:rPr sz="2000"/>
            </a:br>
            <a:r>
              <a:rPr b="1" lang="en-US" sz="2000" spc="-1" strike="noStrike">
                <a:solidFill>
                  <a:srgbClr val="eaeaea"/>
                </a:solidFill>
                <a:latin typeface="Tahoma"/>
              </a:rPr>
              <a:t>and Student                                                          Use: Combination Academic Scale and  Checking for </a:t>
            </a:r>
            <a:br>
              <a:rPr sz="2000"/>
            </a:br>
            <a:r>
              <a:rPr b="1" lang="en-US" sz="2000" spc="-1" strike="noStrike">
                <a:solidFill>
                  <a:srgbClr val="eaeaea"/>
                </a:solidFill>
                <a:latin typeface="Tahoma"/>
              </a:rPr>
              <a:t>Understanding Scale</a:t>
            </a:r>
            <a:endParaRPr b="1" lang="en-US" sz="20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transition spd="slow"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4T13:25:38Z</dcterms:created>
  <dc:creator> </dc:creator>
  <dc:description/>
  <dc:language>en-US</dc:language>
  <cp:lastModifiedBy>Karen Verkler</cp:lastModifiedBy>
  <cp:lastPrinted>2014-01-15T08:32:52Z</cp:lastPrinted>
  <dcterms:modified xsi:type="dcterms:W3CDTF">2014-01-15T08:36:40Z</dcterms:modified>
  <cp:revision>220</cp:revision>
  <dc:subject/>
  <dc:title>Slide 1</dc:title>
</cp:coreProperties>
</file>